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B7A-4127-4A1A-8E9D-2A67D036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3993-EBB1-4942-B671-2502BB48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E36E-F3BB-4B10-AE84-908AE523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5C6-ACCD-4E52-8C89-0F14AEDD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3517-3DA9-4E28-822D-8FFCDE58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CC91-C75B-4154-BAC0-08EC10BD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4F83-1312-4D11-9BE3-D90F8F1F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5A44-77CA-4A76-96F8-B6D8DE27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81EF-B108-47A6-A59A-324531CD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1B76-CDEE-4196-A2DA-5E0E0159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B93F-178B-40E9-9056-86F5C7A3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918-EB1C-4B42-983B-07AC3E05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B856-CFC7-4AFA-8DDE-9F0C3EE5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0B61-987F-4EB6-8C59-4569EC27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5105-85D4-44F5-AD99-74027AFE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6B65-0867-4397-B61A-B0C9236C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BA89-97F6-4DF6-AA76-0313202F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561A-E2FE-4DC4-8C7E-26639BA5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685-C2D1-44B5-9451-3BA77D63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B77-F953-4DAE-AE83-CA0947C5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016D-D6CD-4464-AAC0-811E308D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D598-C322-4AFD-8BC9-19ACF46D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0839-8D28-49F7-933D-1AE2B466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921-7ACF-49BE-8FE8-9B9CA153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41F2-C83F-4FB1-AC34-988A1BF8C8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6015-D946-45DD-BABB-23D7452CD6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922320" cy="904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d9d9ff"/>
                </a:solidFill>
                <a:uFillTx/>
                <a:latin typeface="Comic Sans MS"/>
              </a:rPr>
              <a:t>Pedwar digid</a:t>
            </a: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0920" y="3357360"/>
            <a:ext cx="75596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66"/>
                </a:solidFill>
                <a:latin typeface="Comic Sans MS"/>
              </a:rPr>
              <a:t>Mae swm y digid cyntaf a’r trydydd digid y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ff66"/>
                </a:solidFill>
                <a:latin typeface="Comic Sans MS"/>
              </a:rPr>
              <a:t>ddwbl swm yr ail a’r pedwerydd dig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7200" y="981000"/>
            <a:ext cx="6398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eth yw’r rhif 4 digid a ddisgrifir iso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1800" y="1844640"/>
            <a:ext cx="78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Comic Sans MS"/>
              </a:rPr>
              <a:t>Mae’r digid cyntaf yn dreuan o’r trydydd dig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1960" y="2637000"/>
            <a:ext cx="80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Mae’r pedwerydd digid ddwywaith yr ail ddig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5445000"/>
            <a:ext cx="922320" cy="905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84360" y="4508640"/>
            <a:ext cx="922320" cy="904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932360" y="4653000"/>
            <a:ext cx="922320" cy="904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7524720" y="4149720"/>
            <a:ext cx="922320" cy="905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2700360" y="4724280"/>
            <a:ext cx="922320" cy="905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380360" y="476280"/>
            <a:ext cx="922320" cy="90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3635280" y="5445000"/>
            <a:ext cx="922320" cy="905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5867280" y="5445000"/>
            <a:ext cx="922320" cy="905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7451640" y="5229360"/>
            <a:ext cx="92232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09:39Z</dcterms:created>
  <dc:creator>Carwyn</dc:creator>
  <dc:description/>
  <dc:language>en-US</dc:language>
  <cp:lastModifiedBy>Carwyn</cp:lastModifiedBy>
  <dcterms:modified xsi:type="dcterms:W3CDTF">2008-12-07T19:26:08Z</dcterms:modified>
  <cp:revision>2</cp:revision>
  <dc:subject/>
  <dc:title>Slide 1</dc:title>
</cp:coreProperties>
</file>